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A2FD-AEC2-4C2D-9638-43509264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F2D0-DDB3-4923-AE4B-1291D7C6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51FFE-E518-4176-AB59-01D34EB1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70610-8525-475F-9F00-F5EA6630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7F74-A904-4578-942A-E472B2E2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36A1-68B5-446E-8155-8523E86C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B1BD-FA79-4838-A7BC-E4CC0B8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2D92-5574-434E-AC00-4BFD9A71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F2B-E2FF-456B-910A-A1B59C41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8C8A-FFA0-435B-B571-5F4A31C5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E69-74FC-4192-9707-7C618B33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DE36-0FF0-472A-A9F6-FCEF040F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AE28-B740-404A-9DE2-BF89DE8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E9BE-A5CD-4E32-B22C-4134A2D4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BDD0-C541-4248-B275-4D6AE1F7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1FC5-71DC-42DC-91E3-416EDBCE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4E26-BD86-49D3-BBCA-D2EB50BA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015D6-B9D1-462F-93B1-D8E71455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8FC1-D200-45D5-87DF-2A4078CC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212D-7F54-4FA0-8405-A907A04F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A725-FB29-4A54-B794-7208534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1EE0-2634-4CBB-A6BA-579C32E3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1D698-F2BF-4453-8C0E-A9C23730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E7830-806B-4276-9F3E-75A0126E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5D34-841D-47D9-A586-D05F15B49C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1389-AE21-44DC-B3FA-2DE57F16D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a       </a:t>
            </a: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G</a:t>
            </a:r>
            <a:r>
              <a:rPr b="0" lang="en-US" sz="45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ădina </a:t>
            </a:r>
            <a:br>
              <a:rPr sz="4500"/>
            </a:br>
            <a:r>
              <a:rPr b="0" lang="ro-RO" sz="4500" spc="-1" strike="noStrike">
                <a:solidFill>
                  <a:srgbClr val="ff0000"/>
                </a:solidFill>
                <a:latin typeface="Arial Black"/>
              </a:rPr>
              <a:t>Zoologică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5660640"/>
            <a:ext cx="1843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inguin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30621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e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aton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1989000"/>
            <a:ext cx="2798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angur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şarpel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3230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veveriţ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lamingo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2743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lefant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19128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up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248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rs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106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43040" indent="-7430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igru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122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maimuţ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12936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giraf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36738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ursul polar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0930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2:51:42Z</dcterms:created>
  <dc:creator>DORYN</dc:creator>
  <dc:description/>
  <dc:language>en-US</dc:language>
  <cp:lastModifiedBy>DORYN</cp:lastModifiedBy>
  <dcterms:modified xsi:type="dcterms:W3CDTF">2007-03-26T16:46:49Z</dcterms:modified>
  <cp:revision>3</cp:revision>
  <dc:subject/>
  <dc:title>La        Grădina  Zoologică</dc:title>
</cp:coreProperties>
</file>